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DB4-161C-49CC-BB12-BFBCEFB8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5540-49DA-47AD-8131-91E540FF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488-E02A-42AB-B199-8A37A0AE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7F3F-EC9A-41D3-81B0-8248C80A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589-BEE1-4330-AED7-A36FF10C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9446-AC66-4C05-A13B-F31A98DA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1606-C603-4D38-A96A-33ED2DBE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6F4-E043-4CAF-A8F6-59FADD36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C081-50BA-4809-B75A-F2CBCB91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CF8C-9FE9-45A8-A4E4-5306C3D7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AB6-DCD6-48CF-90EE-4F9E6D26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0E27-6469-4D75-B0B1-79F628F8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116D-BC00-48CD-A2F8-CC64736D7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Confession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erciful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maker and our judg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sinned against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ought, word, and d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t loved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our whole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t loved our neighbou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ourselve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repent, and are sor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all our s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ather, forgiv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trengthen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love and obey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newness of lif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Jesus Christ our Lord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he leader says a scripture sentence, and then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ar then Christ’s word of gr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Your sins are forgiven.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s be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ark 2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095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Prayer © 1999, </a:t>
            </a:r>
            <a:r>
              <a:rPr b="0" i="1" lang="en-US" sz="1800" spc="-1" strike="noStrike">
                <a:solidFill>
                  <a:srgbClr val="bbe0e3"/>
                </a:solidFill>
                <a:latin typeface="Arial Narrow"/>
              </a:rPr>
              <a:t>An Australian Prayer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0:08:27Z</dcterms:created>
  <dc:creator>Anon Anon</dc:creator>
  <dc:description/>
  <dc:language>en-US</dc:language>
  <cp:lastModifiedBy>Anon Anon</cp:lastModifiedBy>
  <dcterms:modified xsi:type="dcterms:W3CDTF">2005-08-16T04:22:44Z</dcterms:modified>
  <cp:revision>15</cp:revision>
  <dc:subject/>
  <dc:title>PowerPoint Presentation</dc:title>
</cp:coreProperties>
</file>